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8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8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303120" y="304920"/>
            <a:ext cx="8537760" cy="61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53416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534160" cy="61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534160" cy="61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17:27:50Z</dcterms:created>
  <dc:creator>David Goebelbecker</dc:creator>
  <dc:description/>
  <dc:language>en-US</dc:language>
  <cp:lastModifiedBy>David Goebelbecker</cp:lastModifiedBy>
  <cp:lastPrinted>2008-05-16T02:14:19Z</cp:lastPrinted>
  <dcterms:modified xsi:type="dcterms:W3CDTF">2008-05-16T02:16:04Z</dcterms:modified>
  <cp:revision>3</cp:revision>
  <dc:subject/>
  <dc:title>PowerPoint Presentation</dc:title>
</cp:coreProperties>
</file>