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924-256A-4CAC-9630-E83A67F9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74C-F1F5-4489-80CF-1224FE79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6238-C7CA-4E38-A44A-6CA5B7D5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421-9F2D-4F99-99FA-620CD098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AB9E-95AB-4B8D-B45B-816C1EDD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63E-C774-40D0-8FEB-4A7B7B2E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BE3-02F7-40FF-B7A6-0F91B84E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3A9-6583-4C2E-81AB-CFC1F039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3AA-32FA-4A79-B304-6B36EFE3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20E-0752-4EA3-9F64-D2F15CE1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1E5-A147-4B17-B41D-B910D71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307-5D84-4656-9BD6-501EAFC4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714-0B2D-400F-A2D2-C13023117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4.xm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3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74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181480"/>
            <a:ext cx="993600" cy="993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38080" y="5181480"/>
            <a:ext cx="99396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4:20:12Z</dcterms:created>
  <dc:creator>David Goebelbecker</dc:creator>
  <dc:description/>
  <dc:language>en-US</dc:language>
  <cp:lastModifiedBy>David Goebelbecker</cp:lastModifiedBy>
  <cp:lastPrinted>2009-03-18T12:51:54Z</cp:lastPrinted>
  <dcterms:modified xsi:type="dcterms:W3CDTF">2009-03-18T12:52:39Z</dcterms:modified>
  <cp:revision>5</cp:revision>
  <dc:subject/>
  <dc:title>PowerPoint Presentation</dc:title>
</cp:coreProperties>
</file>