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6DA-8C99-4ED5-957D-A72948C2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C6A9-0F10-417C-9087-627458DE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BE2-BB97-4C9C-9596-C3913FF2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06B-0E9F-4B9F-B544-8601A111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B4C-BC81-4260-AC5A-C9E012B2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E42-1659-4A0C-880B-C1495A5B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8E22-D510-4620-ABC6-E8FC7973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B4D-074C-4055-B6E1-2D8BB42F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1BA-19AE-4A8A-8D02-BF5745DF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A35-063B-4BBF-AF36-312B933F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8E2-0383-4567-A040-BE88DFCC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279-CDF6-40C5-B824-A29D6EEE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5686-56AB-4A63-9191-A4CB0A12D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1:02:53Z</dcterms:created>
  <dc:creator>David Goebelbecker</dc:creator>
  <dc:description>Copyright © Kidco Labs. All rights reserved.</dc:description>
  <dc:language>en-US</dc:language>
  <cp:lastModifiedBy>David Goebelbecker</cp:lastModifiedBy>
  <cp:lastPrinted>2009-03-19T21:39:27Z</cp:lastPrinted>
  <dcterms:modified xsi:type="dcterms:W3CDTF">2009-03-19T21:41:52Z</dcterms:modified>
  <cp:revision>6</cp:revision>
  <dc:subject>Wild Animal Adventures - Week 1 Memory Verse</dc:subject>
  <dc:title>PowerPoint Presentation</dc:title>
</cp:coreProperties>
</file>